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EE6B-915E-4D4D-8EEC-CD972D93B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F278-8B38-4757-842E-984D6E42B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A0F0-BBFC-4030-B380-7A2E472D6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C72B-0878-4AE9-862F-93AB1FC7B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0648-84F3-4059-9F13-94F91B7F4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EF78-E807-4996-A1A0-6839504EC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D9DB-E449-44A6-9771-EC6DC2C2A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F2C6-BE5B-4549-8C62-F4E178D9C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273B-DD58-4FC2-94AA-C7829BA90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3469-8DB3-465C-85C0-0F664645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918B-6D44-4A9D-886A-FC586488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96C4-BA24-4C76-8B10-95A5F60A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C1143-65CB-45F8-8BC5-A54A480B2A1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54480" y="2514600"/>
            <a:ext cx="1832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Rat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7086600" cy="2895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421720" y="1235160"/>
            <a:ext cx="345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 Epidemiolog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421720" y="1235160"/>
            <a:ext cx="345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 Epidemiolog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71629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8580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391520" cy="495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638680" y="3886200"/>
            <a:ext cx="1676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  eas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723888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3152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72388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3152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78204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70102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3152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6934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9343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3152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68580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238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239240" cy="56386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553080" y="5410080"/>
            <a:ext cx="152424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449000" y="304920"/>
            <a:ext cx="59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Mathematics of a R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7724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371600" y="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athematics of a Rat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cont’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85341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371600" y="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athematics of a Rat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cont’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8001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8077320" cy="4876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90720" y="380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athematics of a Rat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cont’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7162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9343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91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086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3915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2388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07T15:08:09Z</dcterms:modified>
  <cp:revision>179</cp:revision>
  <dc:subject/>
  <dc:title>Slide 1</dc:title>
</cp:coreProperties>
</file>